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822C3-9EFE-429B-A964-863E6CBC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460-121D-4E63-AC56-AE6C7633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D4C-4DC6-4BDD-A021-71F88C9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926-7B5A-4620-86F2-E76C413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DD4-8D43-4C06-8F5E-1C3168D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852-0167-4E89-8AD9-EB0A7607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97D-B8FF-497A-BAB6-776056E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5C0-2DB1-4BF5-BDED-6F6561B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D4A-CB0F-4C05-9B70-E667CC58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07C-736F-4132-A7CE-883EE89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258-34D2-4E21-8CD8-1EDF801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A93-55E5-4550-8952-2E675DD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7EA-A56D-4F90-97C6-346C6C8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45B0F-FC5C-4592-9F94-5BD797AE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3640" y="3213000"/>
            <a:ext cx="7380360" cy="334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6000" y="1268280"/>
            <a:ext cx="2484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59280" y="1449360"/>
            <a:ext cx="1729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1628640"/>
            <a:ext cx="16210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82720" y="1628640"/>
                <a:ext cx="1600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300720" y="2133720"/>
            <a:ext cx="14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15160" y="1652760"/>
                <a:ext cx="15080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v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764720" y="602136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00720" y="5445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ute aqueou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4149720"/>
                <a:ext cx="1359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863640" y="225360"/>
            <a:ext cx="7380360" cy="633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48000" y="51264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8720" y="425772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4076640"/>
            <a:ext cx="32400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93372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400536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4257720"/>
            <a:ext cx="32364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81360"/>
            <a:ext cx="32400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4869000"/>
            <a:ext cx="32364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6000" y="501336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97664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472428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40064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51280" y="1841040"/>
            <a:ext cx="1189080" cy="119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1844640"/>
            <a:ext cx="1189080" cy="11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905360"/>
            <a:ext cx="17636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4400640"/>
            <a:ext cx="323640" cy="323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3645000"/>
            <a:ext cx="17272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5373720"/>
            <a:ext cx="612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3789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53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4"/>
            <a:endCxn id="79" idx="0"/>
          </p:cNvCxnSpPr>
          <p:nvPr/>
        </p:nvCxnSpPr>
        <p:spPr>
          <a:xfrm>
            <a:off x="2268000" y="4365720"/>
            <a:ext cx="360" cy="179640"/>
          </a:xfrm>
          <a:prstGeom prst="straightConnector1">
            <a:avLst/>
          </a:prstGeom>
          <a:ln w="12600">
            <a:solidFill>
              <a:srgbClr val="ffffff"/>
            </a:solidFill>
            <a:prstDash val="dash"/>
            <a:miter/>
          </a:ln>
        </p:spPr>
      </p:cxnSp>
      <p:cxnSp>
        <p:nvCxnSpPr>
          <p:cNvPr id="85" name=""/>
          <p:cNvCxnSpPr>
            <a:stCxn id="79" idx="2"/>
            <a:endCxn id="81" idx="6"/>
          </p:cNvCxnSpPr>
          <p:nvPr/>
        </p:nvCxnSpPr>
        <p:spPr>
          <a:xfrm flipH="1">
            <a:off x="1763640" y="4833360"/>
            <a:ext cx="216360" cy="360"/>
          </a:xfrm>
          <a:prstGeom prst="straightConnector1">
            <a:avLst/>
          </a:prstGeom>
          <a:ln w="12600">
            <a:solidFill>
              <a:srgbClr val="ffffff"/>
            </a:solidFill>
            <a:prstDash val="dash"/>
            <a:miter/>
          </a:ln>
        </p:spPr>
      </p:cxnSp>
      <p:cxnSp>
        <p:nvCxnSpPr>
          <p:cNvPr id="86" name=""/>
          <p:cNvCxnSpPr>
            <a:stCxn id="83" idx="0"/>
            <a:endCxn id="79" idx="4"/>
          </p:cNvCxnSpPr>
          <p:nvPr/>
        </p:nvCxnSpPr>
        <p:spPr>
          <a:xfrm flipV="1">
            <a:off x="2268000" y="5121360"/>
            <a:ext cx="360" cy="216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87" name=""/>
          <p:cNvCxnSpPr>
            <a:stCxn id="79" idx="6"/>
            <a:endCxn id="82" idx="2"/>
          </p:cNvCxnSpPr>
          <p:nvPr/>
        </p:nvCxnSpPr>
        <p:spPr>
          <a:xfrm>
            <a:off x="2556000" y="4833360"/>
            <a:ext cx="216000" cy="3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88" name=""/>
          <p:cNvSpPr/>
          <p:nvPr/>
        </p:nvSpPr>
        <p:spPr>
          <a:xfrm>
            <a:off x="2195640" y="476100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4560" y="3645000"/>
            <a:ext cx="2341440" cy="234144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5800" y="12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tkova</dc:creator>
  <dc:description/>
  <dc:language>en-US</dc:language>
  <cp:lastModifiedBy>tomkirch</cp:lastModifiedBy>
  <dcterms:modified xsi:type="dcterms:W3CDTF">2010-11-23T12:47:37Z</dcterms:modified>
  <cp:revision>1</cp:revision>
  <dc:subject/>
  <dc:title>Slide 1</dc:title>
</cp:coreProperties>
</file>